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driveby.wav" ContentType="audio/x-wav"/>
  <Override PartName="/ppt/media/image15.wmf" ContentType="image/x-wmf"/>
  <Override PartName="/ppt/media/image21.wmf" ContentType="image/x-wmf"/>
  <Override PartName="/ppt/media/image19.wmf" ContentType="image/x-wmf"/>
  <Override PartName="/ppt/media/clap.wav" ContentType="audio/x-wav"/>
  <Override PartName="/ppt/media/image17.wmf" ContentType="image/x-wmf"/>
  <Override PartName="/ppt/media/image12.wmf" ContentType="image/x-wmf"/>
  <Override PartName="/ppt/media/image1.wmf" ContentType="image/x-wmf"/>
  <Override PartName="/ppt/media/CAMERA.WAV" ContentType="audio/x-wav"/>
  <Override PartName="/ppt/media/image24.wmf" ContentType="image/x-wmf"/>
  <Override PartName="/ppt/media/LASER.WAV" ContentType="audio/x-wav"/>
  <Override PartName="/ppt/media/image14.wmf" ContentType="image/x-wmf"/>
  <Override PartName="/ppt/media/image28.wmf" ContentType="image/x-wmf"/>
  <Override PartName="/ppt/media/CHIMES.WAV" ContentType="audio/x-wav"/>
  <Override PartName="/ppt/media/image18.wmf" ContentType="image/x-wmf"/>
  <Override PartName="/ppt/media/image20.wmf" ContentType="image/x-wmf"/>
  <Override PartName="/ppt/media/image6.wmf" ContentType="image/x-wmf"/>
  <Override PartName="/ppt/media/image23.wmf" ContentType="image/x-wmf"/>
  <Override PartName="/ppt/media/image7.wmf" ContentType="image/x-wmf"/>
  <Override PartName="/ppt/media/image25.wmf" ContentType="image/x-wmf"/>
  <Override PartName="/ppt/media/image2.wmf" ContentType="image/x-wmf"/>
  <Override PartName="/ppt/media/image26.wmf" ContentType="image/x-wmf"/>
  <Override PartName="/ppt/media/image3.wmf" ContentType="image/x-wmf"/>
  <Override PartName="/ppt/media/image27.wmf" ContentType="image/x-wmf"/>
  <Override PartName="/ppt/media/image29.wmf" ContentType="image/x-wmf"/>
  <Override PartName="/ppt/media/WHOOSH.WAV" ContentType="audio/x-wav"/>
  <Override PartName="/ppt/media/image16.wmf" ContentType="image/x-wmf"/>
  <Override PartName="/ppt/media/image4.jpeg" ContentType="image/jpeg"/>
  <Override PartName="/ppt/media/image10.wmf" ContentType="image/x-wmf"/>
  <Override PartName="/ppt/media/image8.jpeg" ContentType="image/jpeg"/>
  <Override PartName="/ppt/media/EXPLODE.WAV" ContentType="audio/x-wav"/>
  <Override PartName="/ppt/media/image13.wmf" ContentType="image/x-wmf"/>
  <Override PartName="/ppt/media/image5.wmf" ContentType="image/x-wmf"/>
  <Override PartName="/ppt/media/image9.gif" ContentType="image/gif"/>
  <Override PartName="/ppt/media/image22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8071-5195-4002-941F-EC1F4A38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5141-88A5-413D-984C-07A426E2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6B39-9D3E-4980-BA9D-7450EC6D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CC67-B0C6-4DBB-B183-8F7DC751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2B3D-7BB9-4DE6-BCE0-2FEE3AA8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13C9-05A4-4A5B-9D32-B6192F18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8944-FE45-40B2-B966-C1DDD8B8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47DC-0500-49F8-B572-D3457E81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4410-57B4-4D63-AF7E-AC308CA6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0508-2A24-473B-B7DC-DE0EB9A2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9259-4445-498E-80AA-82AB9FE9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5211-36AB-434F-973F-EF2971EA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EFA8-B4DF-4230-A5DA-1594D9A75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image" Target="../media/image4.jpeg"/><Relationship Id="rId8" Type="http://schemas.openxmlformats.org/officeDocument/2006/relationships/audio" Target="../media/WHOOSH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AMERA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EXPLODE.WAV"/><Relationship Id="rId15" Type="http://schemas.openxmlformats.org/officeDocument/2006/relationships/audio" Target="../media/EXPLODE.WAV"/><Relationship Id="rId16" Type="http://schemas.openxmlformats.org/officeDocument/2006/relationships/audio" Target="../media/clap.wav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image" Target="../media/image8.jpeg"/><Relationship Id="rId8" Type="http://schemas.openxmlformats.org/officeDocument/2006/relationships/audio" Target="../media/CHIMES.WAV"/><Relationship Id="rId9" Type="http://schemas.openxmlformats.org/officeDocument/2006/relationships/audio" Target="../media/CAMERA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EXPLODE.WAV"/><Relationship Id="rId13" Type="http://schemas.openxmlformats.org/officeDocument/2006/relationships/audio" Target="../media/EXPLODE.WAV"/><Relationship Id="rId14" Type="http://schemas.openxmlformats.org/officeDocument/2006/relationships/audio" Target="../media/clap.wav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.wmf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7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8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4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4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19.wmf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AMERA.WAV"/><Relationship Id="rId28" Type="http://schemas.openxmlformats.org/officeDocument/2006/relationships/audio" Target="../media/CAMERA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audio" Target="../media/LASER.WAV"/><Relationship Id="rId32" Type="http://schemas.openxmlformats.org/officeDocument/2006/relationships/audio" Target="../media/LASER.WAV"/><Relationship Id="rId33" Type="http://schemas.openxmlformats.org/officeDocument/2006/relationships/audio" Target="../media/LASER.WAV"/><Relationship Id="rId34" Type="http://schemas.openxmlformats.org/officeDocument/2006/relationships/audio" Target="../media/LASER.WAV"/><Relationship Id="rId35" Type="http://schemas.openxmlformats.org/officeDocument/2006/relationships/audio" Target="../media/driveby.wav"/><Relationship Id="rId36" Type="http://schemas.openxmlformats.org/officeDocument/2006/relationships/audio" Target="../media/LASER.WAV"/><Relationship Id="rId37" Type="http://schemas.openxmlformats.org/officeDocument/2006/relationships/audio" Target="../media/driveby.wav"/><Relationship Id="rId38" Type="http://schemas.openxmlformats.org/officeDocument/2006/relationships/audio" Target="../media/LASER.WAV"/><Relationship Id="rId39" Type="http://schemas.openxmlformats.org/officeDocument/2006/relationships/audio" Target="../media/EXPLODE.WAV"/><Relationship Id="rId40" Type="http://schemas.openxmlformats.org/officeDocument/2006/relationships/audio" Target="../media/EXPLODE.WAV"/><Relationship Id="rId41" Type="http://schemas.openxmlformats.org/officeDocument/2006/relationships/audio" Target="../media/clap.wav"/><Relationship Id="rId4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1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7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2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4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4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23.wmf"/><Relationship Id="rId26" Type="http://schemas.openxmlformats.org/officeDocument/2006/relationships/audio" Target="../media/CHIMES.WAV"/><Relationship Id="rId27" Type="http://schemas.openxmlformats.org/officeDocument/2006/relationships/audio" Target="../media/CAMERA.WAV"/><Relationship Id="rId28" Type="http://schemas.openxmlformats.org/officeDocument/2006/relationships/audio" Target="../media/CAMERA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audio" Target="../media/LASER.WAV"/><Relationship Id="rId32" Type="http://schemas.openxmlformats.org/officeDocument/2006/relationships/audio" Target="../media/LASER.WAV"/><Relationship Id="rId33" Type="http://schemas.openxmlformats.org/officeDocument/2006/relationships/audio" Target="../media/LASER.WAV"/><Relationship Id="rId34" Type="http://schemas.openxmlformats.org/officeDocument/2006/relationships/audio" Target="../media/LASER.WAV"/><Relationship Id="rId35" Type="http://schemas.openxmlformats.org/officeDocument/2006/relationships/audio" Target="../media/driveby.wav"/><Relationship Id="rId36" Type="http://schemas.openxmlformats.org/officeDocument/2006/relationships/audio" Target="../media/LASER.WAV"/><Relationship Id="rId37" Type="http://schemas.openxmlformats.org/officeDocument/2006/relationships/audio" Target="../media/driveby.wav"/><Relationship Id="rId38" Type="http://schemas.openxmlformats.org/officeDocument/2006/relationships/audio" Target="../media/LASER.WAV"/><Relationship Id="rId39" Type="http://schemas.openxmlformats.org/officeDocument/2006/relationships/audio" Target="../media/EXPLODE.WAV"/><Relationship Id="rId40" Type="http://schemas.openxmlformats.org/officeDocument/2006/relationships/audio" Target="../media/EXPLODE.WAV"/><Relationship Id="rId41" Type="http://schemas.openxmlformats.org/officeDocument/2006/relationships/audio" Target="../media/clap.wav"/><Relationship Id="rId4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AMERA.WAV"/><Relationship Id="rId11" Type="http://schemas.openxmlformats.org/officeDocument/2006/relationships/audio" Target="../media/LASER.WAV"/><Relationship Id="rId12" Type="http://schemas.openxmlformats.org/officeDocument/2006/relationships/audio" Target="../media/EXPLODE.WAV"/><Relationship Id="rId13" Type="http://schemas.openxmlformats.org/officeDocument/2006/relationships/audio" Target="../media/clap.wav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AMERA.WAV"/><Relationship Id="rId10" Type="http://schemas.openxmlformats.org/officeDocument/2006/relationships/audio" Target="../media/LASER.WAV"/><Relationship Id="rId11" Type="http://schemas.openxmlformats.org/officeDocument/2006/relationships/audio" Target="../media/EXPLODE.WAV"/><Relationship Id="rId12" Type="http://schemas.openxmlformats.org/officeDocument/2006/relationships/audio" Target="../media/clap.wav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Convert the currency using the given exchange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62120" y="2209680"/>
          <a:ext cx="5118120" cy="13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09680"/>
                    <a:ext cx="511812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066680" y="3505320"/>
          <a:ext cx="4440240" cy="15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505320"/>
                    <a:ext cx="4440240" cy="15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914400" y="5181480"/>
          <a:ext cx="4413240" cy="80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5181480"/>
                    <a:ext cx="4413240" cy="8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0" y="1295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1.  Convert $150 U.S dollars to German marks.                    ($1 U.S. is 1.8943 mark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838080" y="2666880"/>
            <a:ext cx="1295640" cy="45720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666880" y="3048120"/>
            <a:ext cx="1295640" cy="45720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867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60199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You will receive 284 German mar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6781680" y="1828800"/>
            <a:ext cx="20574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Convert the currency using the given exchange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80880" y="2743200"/>
          <a:ext cx="6354720" cy="13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743200"/>
                    <a:ext cx="635472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33520" y="4114800"/>
          <a:ext cx="4543200" cy="15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114800"/>
                    <a:ext cx="454320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598320" y="5791320"/>
          <a:ext cx="4079880" cy="803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8320" y="5791320"/>
                    <a:ext cx="407988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0" y="1295280"/>
            <a:ext cx="624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996633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Convert $200 U.S dollars to Austrian schillings.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($1 U.S. is 13.3272 schill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09480" y="3200400"/>
            <a:ext cx="1295640" cy="45720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590920" y="3581280"/>
            <a:ext cx="1295280" cy="45720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867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502920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You will receive 2,665 Austrian schill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5257800" y="1295280"/>
            <a:ext cx="358128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062840" y="0"/>
            <a:ext cx="2081160" cy="2819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Using Ratios to Write an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0" y="2874960"/>
          <a:ext cx="4343400" cy="117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874960"/>
                    <a:ext cx="434340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838080" y="3809880"/>
          <a:ext cx="879480" cy="129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3809880"/>
                    <a:ext cx="8794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267080" y="5257800"/>
          <a:ext cx="534960" cy="536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67080" y="5257800"/>
                    <a:ext cx="53496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0" y="1219320"/>
            <a:ext cx="7467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33"/>
                </a:solidFill>
                <a:latin typeface="Times New Roman"/>
              </a:rPr>
              <a:t>3.  You took a survey of your classmates and found that 6 of the 27 classmates have public library cards. Use your results to make a prediction for  the 855 students enrolled in your schoo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867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57913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About 190 of the 855 students will have a library c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419720" y="2895480"/>
          <a:ext cx="4724280" cy="1125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9720" y="2895480"/>
                    <a:ext cx="4724280" cy="11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990720" y="4572000"/>
          <a:ext cx="671400" cy="501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90720" y="4572000"/>
                    <a:ext cx="67140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" descr=""/>
          <p:cNvPicPr/>
          <p:nvPr/>
        </p:nvPicPr>
        <p:blipFill>
          <a:blip r:embed="rId12"/>
          <a:stretch/>
        </p:blipFill>
        <p:spPr>
          <a:xfrm>
            <a:off x="1600200" y="3809880"/>
            <a:ext cx="1552680" cy="129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2133720" y="4572000"/>
          <a:ext cx="880920" cy="501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33720" y="4572000"/>
                    <a:ext cx="88092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3865680" y="4114800"/>
          <a:ext cx="922320" cy="501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65680" y="4114800"/>
                    <a:ext cx="92232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724280" y="4114800"/>
          <a:ext cx="1551240" cy="501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24280" y="4114800"/>
                    <a:ext cx="155124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962520" y="4648320"/>
          <a:ext cx="714240" cy="527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962520" y="4648320"/>
                    <a:ext cx="71424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5334120" y="4648320"/>
          <a:ext cx="714240" cy="527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34120" y="4648320"/>
                    <a:ext cx="71424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3914640" y="4622760"/>
            <a:ext cx="7621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10280" y="4622760"/>
            <a:ext cx="9223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724280" y="5181480"/>
          <a:ext cx="1605240" cy="644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724280" y="5181480"/>
                    <a:ext cx="160524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61040" y="0"/>
            <a:ext cx="2082960" cy="2819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Using Ratios to Write an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2874960"/>
          <a:ext cx="4343400" cy="117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874960"/>
                    <a:ext cx="434340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838080" y="3809880"/>
          <a:ext cx="879480" cy="129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3809880"/>
                    <a:ext cx="8794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4267080" y="5257800"/>
          <a:ext cx="534960" cy="536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67080" y="5257800"/>
                    <a:ext cx="53496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1219320"/>
            <a:ext cx="73915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33"/>
                </a:solidFill>
                <a:latin typeface="Times New Roman"/>
              </a:rPr>
              <a:t>4.  You took a survey of your classmates and found that 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en-US" sz="2600" spc="-1" strike="noStrike">
                <a:solidFill>
                  <a:srgbClr val="996633"/>
                </a:solidFill>
                <a:latin typeface="Times New Roman"/>
              </a:rPr>
              <a:t> of the 27 classmates have public library cards. Use your results to make a prediction for the 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930</a:t>
            </a:r>
            <a:r>
              <a:rPr b="1" lang="en-US" sz="2600" spc="-1" strike="noStrike">
                <a:solidFill>
                  <a:srgbClr val="996633"/>
                </a:solidFill>
                <a:latin typeface="Times New Roman"/>
              </a:rPr>
              <a:t> students enrolled in your schoo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867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7913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About 310 of the 930 students will have a library c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419720" y="2895480"/>
          <a:ext cx="4724280" cy="1125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9720" y="2895480"/>
                    <a:ext cx="4724280" cy="11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990720" y="4572000"/>
          <a:ext cx="671400" cy="501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90720" y="4572000"/>
                    <a:ext cx="67140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600200" y="3809880"/>
          <a:ext cx="1552680" cy="1295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00200" y="3809880"/>
                    <a:ext cx="15526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133720" y="4572000"/>
          <a:ext cx="880920" cy="501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133720" y="4572000"/>
                    <a:ext cx="88092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865680" y="4114800"/>
          <a:ext cx="922320" cy="5014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865680" y="4114800"/>
                    <a:ext cx="92232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724280" y="4114800"/>
          <a:ext cx="1551240" cy="5014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724280" y="4114800"/>
                    <a:ext cx="155124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962520" y="4648320"/>
          <a:ext cx="714240" cy="5270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962520" y="4648320"/>
                    <a:ext cx="71424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334120" y="4648320"/>
          <a:ext cx="714240" cy="5270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334120" y="4648320"/>
                    <a:ext cx="71424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3914640" y="4622760"/>
            <a:ext cx="7621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10280" y="4622760"/>
            <a:ext cx="9223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697280" y="5181480"/>
          <a:ext cx="1659240" cy="6447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697280" y="5181480"/>
                    <a:ext cx="165924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Find the percent. Round to the nearest whole per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600200" y="2666880"/>
          <a:ext cx="114948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666880"/>
                    <a:ext cx="11494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0" y="1219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5.  Tax of $2.88 on an item priced at $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4191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The percent of the tax is 8%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90920" y="3017880"/>
          <a:ext cx="1752480" cy="63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3017880"/>
                    <a:ext cx="175248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292640" y="2971800"/>
          <a:ext cx="160668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92640" y="2971800"/>
                    <a:ext cx="160668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304920" y="17524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o find the percent, divide the amount of the tax by the price of the i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Find the percent. Round to the nearest whole per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82720" y="2666880"/>
          <a:ext cx="78264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2720" y="2666880"/>
                    <a:ext cx="78264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0" y="1219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6.  $3 tip on an meal priced at $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4191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The percent of the tip is 18.75%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514600" y="3048120"/>
          <a:ext cx="2336760" cy="63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3048120"/>
                    <a:ext cx="23367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724280" y="3048120"/>
          <a:ext cx="262440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3048120"/>
                    <a:ext cx="26244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04920" y="17524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o find the percent, divide the amount of the 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tip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by the price of the 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meal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5-09-22T12:26:02Z</dcterms:modified>
  <cp:revision>218</cp:revision>
  <dc:subject/>
  <dc:title>No Slide Title</dc:title>
</cp:coreProperties>
</file>